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B775-275B-46A6-ADAA-3FF67064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8A8B-07C7-4E3A-BEF6-E4F17C5B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5ECF-BF79-4891-8EEB-EC4D15B7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5FAE-C832-4B98-BF52-4257991A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7BEC-2611-42C3-8926-8D4C5892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2FA4-53AD-48C5-88C0-C4B7E4B4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999-12BB-4629-91A8-10628A51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AA51-1221-40AE-83F9-34271226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1BD4-1ABA-4D32-AA0F-6582E9A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C550-D489-4D15-829F-3E9F9BC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FCB-BBA1-465F-B341-C0E0FDEE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F08-67E3-4137-8909-06F3445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AB91-BC64-4E78-881A-5DB60C9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E216-81CF-4C3C-85B1-37EDC28F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C747-989D-42E0-83C6-59F9008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610E-BEA8-4C67-856E-44D85678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8646-6CC9-420A-AC36-B4EA11B4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4496-A093-43BE-8E33-54C99E0A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533B2-3BE0-468A-B048-BF8A53B9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D041-4EAA-464A-9D91-7C29156E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28D4-7F7B-4D9F-B4D6-509BBA90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2D1C-27F0-4150-9C32-4C697FA1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72A-69A4-4A6E-80B6-8DBDCD9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3526-C63C-43DC-8676-2BD9C8FE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9137-98CE-49DA-A179-39B015C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DB69-62FE-4532-9888-D6426BB9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6816-B40C-4DE8-B588-1863758F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FFA1D-8CB9-4B76-B24D-2BFE4994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45A5-B19A-4982-89FC-9EB385D2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B5D1-B374-4FB6-8D47-3945AF25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AE863-2F09-47BA-B57E-1C688261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0CDBF-65E6-425F-9B58-AA41DB06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2163-760C-4B0E-9125-DDFA80A5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A55-35F1-4DBD-986F-23B8CAD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47DC1-420E-4C61-80CD-C5AAA5E7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6F83-0D56-4B4F-B1CC-74555380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44223-9C23-4B6E-9C89-EE2C122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697B9-CABD-4F29-9003-925C72E3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C458B-A796-4263-8108-46556BE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C300-659F-4DCF-B429-36975F1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79A3A-FBD9-4FFF-B27F-7F705DD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4A77F-59AA-42BE-8970-7EDD5627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831EC-DB7F-46C8-82B3-650B6684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229FA-DF37-4E2A-B25B-A230DC87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F0B-4C66-4AEC-B6AC-3B9B1CE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1F473-34C1-4DA4-B5A8-4EA1A24E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DD8C-3B56-4C50-8B46-8E23DB19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CD22-FBE0-4C3F-9A38-F4BCE077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D24E3-FC15-4D94-83AE-A7176D62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AB0BD-E227-41F2-9D49-3F5B88A3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2B7C4-E8AC-42E3-8C16-91C02F3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20128-665F-4615-B440-4ED5BBD3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D44ED-7176-4443-B0E4-B18D2A14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B8CCA-3677-45DC-ADCA-394F98A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A3B52-B312-4A8E-B5DF-12083327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FF9-25F7-4B2D-A437-2CB216A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45F7-D1F5-46BB-BED6-56176682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BDB3A-71C5-4BDF-8841-28BE931B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D945F-641F-4B6D-BB66-F0B6D459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39BBC-45DF-46C8-BF56-5E36007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DFDFF-5532-4866-926A-5C29301C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9271-051E-4D46-AB57-F0D3E2F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277D7-F2AE-4973-AFD7-92395E9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D579-8C32-4F1B-885C-F83EF0BB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69B1-DF3E-4C2C-9633-746BA943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4E45E-A30D-471D-BA0E-10A84282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9F8-6FF7-44A0-8C83-F10CCFD3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FDED-C5F8-454D-87FB-9D1FC68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04BF6-9AE6-43CC-A98B-883A002D8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219E-8404-42A9-9E37-E977FE4B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859E2-5D86-4DE9-BE3E-9FA9FA9D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4F76D-8EBA-4CA1-B2AD-3982495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88122-D05A-42BC-94D3-440DC419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D726C-AECB-4118-B3DE-146DCF88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A475E-9C35-430F-8BF8-251FB094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975DC-0635-4D36-8DCB-ECF839C1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4F343-3F41-4F1C-9A1D-672EA1E8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34D-CA1F-438C-AA1E-C68DF9EB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71D5E-9070-40F9-A852-7BB6E7B7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1123B-93B1-49FE-94D4-C4318EB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74E6-1AC3-4702-84FE-FAC9DB3D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50F43-EA6D-4AFD-AB2D-DF98306D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37A35-F32B-4942-AECE-53EF0B33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A6B-76AB-4160-ADF4-B83D5F5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0899-53B6-4561-9D3D-9AC7FFE1CDFF}" type="slidenum"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2BE-677D-4086-8174-F57761C9A63D}" type="slidenum"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08DC-DB6E-45BF-923C-58FF2AF8355F}" type="slidenum"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F29-B948-485B-AAF0-10A4FA390233}" type="slidenum"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8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0944-8E46-4ECB-9B0A-5B72A441054E}" type="slidenum"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D85C-F45D-4B50-A5B4-343D09F9C678}" type="slidenum">
              <a:rPr b="0" lang="lv-LV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reeform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Freeform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74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77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8D44-E0E6-4459-95CF-1EE9E06BE2AC}" type="slidenum">
              <a:rPr b="0" lang="lv-LV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530280" y="1603440"/>
            <a:ext cx="8186760" cy="240192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Partner: Foundation for Socie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Riga, Latv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Project Manager: Marta Kaprāl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000000"/>
                </a:solidFill>
                <a:latin typeface="Lucida Sans Unicode"/>
              </a:rPr>
              <a:t>You are very welcome to my country!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Lucida Sans Unicode"/>
              </a:rPr>
              <a:t>For projects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Lucida Sans Unicode"/>
              </a:rPr>
              <a:t>For holidays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Lucida Sans Unicode"/>
              </a:rPr>
              <a:t>And for many other reasons...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_origin_Megapoles-1"/>
          <p:cNvPicPr/>
          <p:nvPr/>
        </p:nvPicPr>
        <p:blipFill>
          <a:blip r:embed="rId2"/>
          <a:stretch/>
        </p:blipFill>
        <p:spPr>
          <a:xfrm>
            <a:off x="6012000" y="3860640"/>
            <a:ext cx="2881080" cy="19623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"/>
          <p:cNvPicPr/>
          <p:nvPr/>
        </p:nvPicPr>
        <p:blipFill>
          <a:blip r:embed="rId3"/>
          <a:stretch/>
        </p:blipFill>
        <p:spPr>
          <a:xfrm>
            <a:off x="250920" y="3887640"/>
            <a:ext cx="2808360" cy="1933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1" descr="1629465_2YcXvs"/>
          <p:cNvPicPr/>
          <p:nvPr/>
        </p:nvPicPr>
        <p:blipFill>
          <a:blip r:embed="rId4"/>
          <a:stretch/>
        </p:blipFill>
        <p:spPr>
          <a:xfrm>
            <a:off x="3059280" y="3860640"/>
            <a:ext cx="295272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993960"/>
          </a:xfrm>
          <a:prstGeom prst="rect">
            <a:avLst/>
          </a:prstGeom>
          <a:ln w="0">
            <a:noFill/>
          </a:ln>
        </p:spPr>
      </p:pic>
      <p:pic>
        <p:nvPicPr>
          <p:cNvPr id="324" name="Content Placeholder 3" descr="europe_map.jpg"/>
          <p:cNvPicPr/>
          <p:nvPr/>
        </p:nvPicPr>
        <p:blipFill>
          <a:blip r:embed="rId2"/>
          <a:stretch/>
        </p:blipFill>
        <p:spPr>
          <a:xfrm>
            <a:off x="4152960" y="1052640"/>
            <a:ext cx="4579920" cy="55814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481040"/>
            <a:ext cx="353844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Lucida Sans Unicode"/>
              </a:rPr>
              <a:t>One of the Baltic countr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Lucida Sans Unicode"/>
              </a:rPr>
              <a:t>Capital city - Riga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Lucida Sans Unicode"/>
              </a:rPr>
              <a:t>Oficial language – latvi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Lucida Sans Unicode"/>
              </a:rPr>
              <a:t>Population  - 2.3 mill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26" name="Straight Arrow Connector 13"/>
          <p:cNvCxnSpPr/>
          <p:nvPr/>
        </p:nvCxnSpPr>
        <p:spPr>
          <a:xfrm>
            <a:off x="5435640" y="691920"/>
            <a:ext cx="216108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27" name="Picture 20" descr="images.jpg"/>
          <p:cNvPicPr/>
          <p:nvPr/>
        </p:nvPicPr>
        <p:blipFill>
          <a:blip r:embed="rId3"/>
          <a:stretch/>
        </p:blipFill>
        <p:spPr>
          <a:xfrm>
            <a:off x="1258920" y="0"/>
            <a:ext cx="135108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0" y="378936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4e5b6f"/>
                </a:solidFill>
                <a:latin typeface="Lucida Sans Unicode"/>
              </a:rPr>
              <a:t>FOUNDATION FOR SOCIETY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9" name="Picture 3" descr="illustr.jpg"/>
          <p:cNvPicPr/>
          <p:nvPr/>
        </p:nvPicPr>
        <p:blipFill>
          <a:blip r:embed="rId1"/>
          <a:stretch/>
        </p:blipFill>
        <p:spPr>
          <a:xfrm>
            <a:off x="3564000" y="981000"/>
            <a:ext cx="4884840" cy="2529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261188_210778255623883_224576_n.jpg"/>
          <p:cNvPicPr/>
          <p:nvPr/>
        </p:nvPicPr>
        <p:blipFill>
          <a:blip r:embed="rId2"/>
          <a:stretch/>
        </p:blipFill>
        <p:spPr>
          <a:xfrm>
            <a:off x="1042920" y="1268280"/>
            <a:ext cx="23148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mission of </a:t>
            </a: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the F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undation</a:t>
            </a: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courage the development of socially active</a:t>
            </a: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ocially responsible </a:t>
            </a: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socie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Latvia</a:t>
            </a: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, especially focusing on th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advantaged </a:t>
            </a: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group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2" name="Picture 3" descr="nm_5797751.jpg"/>
          <p:cNvPicPr/>
          <p:nvPr/>
        </p:nvPicPr>
        <p:blipFill>
          <a:blip r:embed="rId1"/>
          <a:stretch/>
        </p:blipFill>
        <p:spPr>
          <a:xfrm>
            <a:off x="5724360" y="4465800"/>
            <a:ext cx="322128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ims</a:t>
            </a: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 of the Founda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Raise the wellfare of socially disadvantaged groups, especially young peop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courage</a:t>
            </a: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 the develop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civil socie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Develop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rity proje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Develop projects raising cultural awarenes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000000"/>
                </a:solidFill>
                <a:latin typeface="Lucida Sans Unicode"/>
              </a:rPr>
              <a:t>Target audience of the Foundation project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youth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women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Socially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advantaged </a:t>
            </a: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groups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everyone who wants to learn and be active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Project “Learn together” providing young people (also from disadvantaged groups) with the opportunity to attend different training courses (scope: local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Project “Move your idea forward” within the programme “Youth in Action” with the aim to give the possibility for young people to implement their idea through informal learning methods (scope: loc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Participation in different associ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Projects and activities within “Youth in Action” programm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Study visits (Leonardo, Grundtvig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0000"/>
                </a:solidFill>
                <a:latin typeface="Lucida Sans Unicode"/>
              </a:rPr>
              <a:t>Local and international projects (social, cultural, educational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Content Placeholder 3" descr="Picture211111111.jpg"/>
          <p:cNvPicPr/>
          <p:nvPr/>
        </p:nvPicPr>
        <p:blipFill>
          <a:blip r:embed="rId1"/>
          <a:stretch/>
        </p:blipFill>
        <p:spPr>
          <a:xfrm>
            <a:off x="1403280" y="1557360"/>
            <a:ext cx="6027840" cy="4525920"/>
          </a:xfrm>
          <a:prstGeom prst="rect">
            <a:avLst/>
          </a:prstGeom>
          <a:ln w="0">
            <a:noFill/>
          </a:ln>
        </p:spPr>
      </p:pic>
      <p:pic>
        <p:nvPicPr>
          <p:cNvPr id="340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1:11:29Z</dcterms:created>
  <dc:creator>Ginta</dc:creator>
  <dc:description/>
  <dc:language>en-US</dc:language>
  <cp:lastModifiedBy>federica</cp:lastModifiedBy>
  <dcterms:modified xsi:type="dcterms:W3CDTF">2011-11-21T18:43:23Z</dcterms:modified>
  <cp:revision>76</cp:revision>
  <dc:subject/>
  <dc:title>Slide 1</dc:title>
</cp:coreProperties>
</file>